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557-E5C8-49CA-ACD0-42B2965A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86D-D9B3-44FC-BC1B-688A1D3C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4D7-8095-476C-97DB-FA527598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CB3-3B72-4CFB-A12A-B9D357B6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C330-17E8-4ECD-B333-C6B9709E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F07F-E6BB-4D87-9317-D091F7F1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F167-EB49-4055-85A1-B8D817A5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0B02-A6F9-48C5-A194-3471C7F0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3A50-6817-4E05-95E1-75D780CB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2F40-228A-4920-A134-0E79B65F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6EF0-3091-40DE-BD51-2F5FBAC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3DF-6084-4EAB-9873-BCC45492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5286-2A00-491A-BF9A-DA6DD494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4C1C-7A82-49DA-9B04-01FEAD2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31FC-45F4-4E13-9A91-3533476F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41AB-35ED-4786-B00B-E602CC69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8945-CA40-4FE6-AC75-A09CFECE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BC4-04B3-409C-8EE7-52D00848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063-76DD-4A85-80F1-BB5CFA99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84E-B41E-4079-965E-AF9FF308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E52-B84C-48B6-8504-2B93981C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9E0-DB90-4D95-B1C9-B6BF873C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7A6-5663-4DD9-95CC-04AC1B83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D77-18B7-42A6-A2F3-99E97649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98CE-2CC7-4F46-AE73-C04195A29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EDC5-6940-4182-BAC4-EE9D385C5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Sec. 37-3 Tobacco and the Respiratory Syste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LARGE%20PHOTOS_cigerettes"/>
          <p:cNvPicPr/>
          <p:nvPr/>
        </p:nvPicPr>
        <p:blipFill>
          <a:blip r:embed="rId1"/>
          <a:stretch/>
        </p:blipFill>
        <p:spPr>
          <a:xfrm>
            <a:off x="457200" y="2286000"/>
            <a:ext cx="4876920" cy="3255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MCj02871050000[1]"/>
          <p:cNvPicPr/>
          <p:nvPr/>
        </p:nvPicPr>
        <p:blipFill>
          <a:blip r:embed="rId2"/>
          <a:stretch/>
        </p:blipFill>
        <p:spPr>
          <a:xfrm>
            <a:off x="5813280" y="2362320"/>
            <a:ext cx="2859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spiratory Diseases Associated with Smo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09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Bronch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Emphys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Lung Can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ronchitis / Emphyse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ronchit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Bronchi become swollen and clogged with mu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mphyse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loss of elasticity in the tissue of the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veoli lose elasticity and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illaries that surround alveoli break ap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17099"/>
          <p:cNvPicPr/>
          <p:nvPr/>
        </p:nvPicPr>
        <p:blipFill>
          <a:blip r:embed="rId1"/>
          <a:stretch/>
        </p:blipFill>
        <p:spPr>
          <a:xfrm>
            <a:off x="0" y="1295280"/>
            <a:ext cx="4675320" cy="3740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emphysema-picture"/>
          <p:cNvPicPr/>
          <p:nvPr/>
        </p:nvPicPr>
        <p:blipFill>
          <a:blip r:embed="rId2"/>
          <a:stretch/>
        </p:blipFill>
        <p:spPr>
          <a:xfrm>
            <a:off x="4800600" y="1295280"/>
            <a:ext cx="449568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ung Canc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Nearly 160,000 people in U.S get lung cancer each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deadly because it spreads easily and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thers Effects of Smo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onstricts the blood vessels, causes heart to work harder resulting in higher blood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 builds up on artery walls easi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ul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People who smoke have twice the rate of heart disease of nonsmoker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smoking"/>
          <p:cNvPicPr/>
          <p:nvPr/>
        </p:nvPicPr>
        <p:blipFill>
          <a:blip r:embed="rId1"/>
          <a:stretch/>
        </p:blipFill>
        <p:spPr>
          <a:xfrm>
            <a:off x="1676520" y="22860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tobacco%20facts%20page"/>
          <p:cNvPicPr/>
          <p:nvPr/>
        </p:nvPicPr>
        <p:blipFill>
          <a:blip r:embed="rId1"/>
          <a:stretch/>
        </p:blipFill>
        <p:spPr>
          <a:xfrm>
            <a:off x="304920" y="533520"/>
            <a:ext cx="86868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armful Chemicals 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ound In Tobac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brown, sticky combination of  chemic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icot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stimulant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arbon monoxide (CO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poisonous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61760" y="42667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ottle above with the tar collected from 2,000 cigarettes.  If a diluted form of this tar is painted on the skin of mice, 60% of the animals developed cancer of the skin within a ye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bottletar"/>
          <p:cNvPicPr/>
          <p:nvPr/>
        </p:nvPicPr>
        <p:blipFill>
          <a:blip r:embed="rId1"/>
          <a:stretch/>
        </p:blipFill>
        <p:spPr>
          <a:xfrm>
            <a:off x="2514600" y="1395360"/>
            <a:ext cx="4267080" cy="3062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752480" y="3808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T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752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Nicotin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7" name="Picture 5" descr="Nicotine"/>
          <p:cNvPicPr/>
          <p:nvPr/>
        </p:nvPicPr>
        <p:blipFill>
          <a:blip r:embed="rId1"/>
          <a:stretch/>
        </p:blipFill>
        <p:spPr>
          <a:xfrm>
            <a:off x="304920" y="1828800"/>
            <a:ext cx="39672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arb_mon"/>
          <p:cNvPicPr/>
          <p:nvPr/>
        </p:nvPicPr>
        <p:blipFill>
          <a:blip r:embed="rId2"/>
          <a:stretch/>
        </p:blipFill>
        <p:spPr>
          <a:xfrm>
            <a:off x="5029200" y="1828800"/>
            <a:ext cx="3940200" cy="4114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5181480" y="8380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Carbon Monox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ffects of Smoking on the Respiratory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and carbon monoxide paralyze the c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 and particles stick to the windpipe or gets stuck in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op of the irritation, mucus production is incr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s coughing h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1" descr="lungs2"/>
          <p:cNvPicPr/>
          <p:nvPr/>
        </p:nvPicPr>
        <p:blipFill>
          <a:blip r:embed="rId1"/>
          <a:stretch/>
        </p:blipFill>
        <p:spPr>
          <a:xfrm>
            <a:off x="1295280" y="609480"/>
            <a:ext cx="71629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ffects of Smoking on the Respiratory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ing of the respiratory system sw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er to brea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 accumulates and can pass into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causing can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6:12:53Z</dcterms:created>
  <dc:creator>udsd</dc:creator>
  <dc:description/>
  <dc:language>en-US</dc:language>
  <cp:lastModifiedBy>Preferred Customer</cp:lastModifiedBy>
  <dcterms:modified xsi:type="dcterms:W3CDTF">2010-02-23T09:00:03Z</dcterms:modified>
  <cp:revision>9</cp:revision>
  <dc:subject/>
  <dc:title>Respiration</dc:title>
</cp:coreProperties>
</file>